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24B-087B-4445-85C6-7B8407D5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F9C-BD59-42B4-8796-E3E1482C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20969-9039-4345-95D4-4A4C49D4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C4367-632D-4D84-A224-71698D83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C268-D040-4CA5-9ADF-53F74F59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6A38A-1F3C-4D72-9364-193F70C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CF257-3C7E-43D1-AB3C-6F727BE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96A03-8EA1-4CD7-96FE-768B668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5AB40-5878-486E-A45D-B391B6F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333D5-2FB3-4264-B4A2-E211DA79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97D27-DB1F-4084-9FF5-167CBC45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7D828-DA15-4F2E-AF1D-6787369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0AF-542A-43C9-95C5-430FF20E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43F4B-7904-448F-94C1-65BE34DE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1E3EE-810A-41F0-AAAD-2F27B86C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8127D-4BB7-4AC7-8AAA-666A627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2D332-93FA-423F-B0D9-C55FA91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20026-FB3F-4269-84F0-80545DDB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C82E4-F6F1-4C82-BFB3-6D5CB064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92D4E-FBD3-4369-8ACE-661648B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86D27-1AA1-4425-BFE4-564F90AD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EDBEF-3C19-4034-922C-D184AE6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0E807-B735-41BC-AC77-E03626EE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FEA-C88B-4AA5-83E4-0F744A29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F7501-F850-438D-BE78-F00DEAAF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7A86-0509-41BE-8289-99625B3D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D14E9-9AEF-4E3C-B413-FE96B2F4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1451C-7A0A-4685-9118-4318C68E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FFE4-9023-40BD-BAE7-5641DF1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9D526-2F3A-446F-A280-9CE06A5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E98CA-0953-4BE0-BCD0-0A0D076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E961C-C076-489F-B591-1FBA1EA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78CF4-3741-4350-88EA-0E3B806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C459-CB32-4E13-AE03-ECF744A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E0DE-C066-45F8-ABFD-A7DA2443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3010E-3D2C-4F59-BA5C-E3E6CE6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D7E34-81AA-42AF-85E1-C086BE08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B4E21-EBA4-4EA6-AAC7-2D1A312B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963C1-09E7-4C3C-9381-427415F4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39A06-BFFD-4571-AE5A-5404775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FC5BA-CACF-47A3-91E5-3DFAA4C5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9906-C01F-4E13-BDDF-15A0DE25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A81E9-4118-42D1-AF11-2B381BC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206A1-087C-4054-BDCD-D6924A39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E2F47-72AB-440E-A6C9-B253941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44D1-3076-47C0-8A4F-49219A2F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D7743-9550-4B8D-AAC7-41098FF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27596-3F05-45B8-8F65-50B86BA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42F86-4B23-409C-BA1B-78BC3ED1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0534C-C866-48DC-8347-7B2E40B3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77EFC-1A65-4ADF-9028-BFD9EDEA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AD73-E529-4060-8400-AF0A54EF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8971-88AC-4181-88DB-BC8AFBF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BEE-5AE3-4B85-894D-674EEF5A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EF07-1E40-4A46-93BD-F5014DF3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B6F6-D130-4247-BC97-520D3FF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03A-E3FE-4CDC-A794-27A27C1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E38-AB31-4347-A4CE-2BBF2EC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E04B-3B44-4AB5-9093-F12FA8E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9A25-D819-4063-BC10-A043EA96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D3CC-58A4-4652-B0F2-E84D5D08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BC46-5503-401A-ABDF-C822E90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57A1-6909-4930-9CEA-FF4D43C7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B335-AEB2-4172-AE64-23E0ED3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2BBB-7EF9-418D-BD82-CD39874B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AB70-440B-408E-84A7-595F37AA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3927-89B3-4D57-8405-54B47EA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7B2-5617-4499-824A-57F4459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9073-09B2-4979-81A6-9553F8D5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987E-F0D2-4756-A7E9-8B61DB0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EA42-B147-4B32-854F-CAC2087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B854-3393-4DF5-BE1A-CB9CC1F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C4DA-8AF1-46D2-BFE7-0551025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E60A-7D82-48A3-B500-9F3BB589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4BC0-ECE6-470F-853E-43703B85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162B-1D72-4496-91DD-5F6FE0F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A702-09E0-4F62-A88F-5F08C71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48BB-4027-4E9E-8D51-6B01720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E27-EE5A-443C-9B29-2E8653E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843EC-D3EA-462C-A321-96E2C2B0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2A9A-2455-4149-B287-BDB8E25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7EE4-116C-46D5-9776-6D7B32E6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7783-D8ED-4B79-A30B-CFA1EE6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DA38-DE05-458D-9672-9D62E55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F1B6-12F0-44F0-AC64-C47E8AFC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E588-137A-4608-B273-F1583AE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7B0C-19A8-422A-994A-F57BAA1B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030B-7CA1-4586-AFCD-F7FDA5A6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3FB3-7306-4D87-BF05-9934635E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644-C189-429B-9285-A42F8594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ABD7-F1C8-49F1-9D10-3243B63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1CCF-AE67-4503-A574-1FFE2EC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C488-9453-4C3C-881C-5633CC56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F2F8-F115-4DB4-B2B8-0C1C3F13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C260-5F38-42D9-8DA4-11E9789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D9D16-4975-45D2-BFEB-BE8AEA9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36DA-25F0-4767-8668-A8C7945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C92C-4C0D-4DDB-A39A-0A3E2CB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EEC60-A5CE-48E1-9F27-66880B1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0385-C473-4CFF-92C3-A0D7E1C0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D66-2AF2-4946-9736-98FD9E9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731A-B3A1-46B8-AC5E-E05AA76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31531-5F69-4EB6-A579-65F7191F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40C06-8FCC-4D54-A759-4633CAB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FAE0-F02F-433E-B812-48DD290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D422-D2B9-45E4-91BC-623FFF0C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3C6E-81EC-44E0-97A7-C10E548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4F8D3-1259-4115-8238-2BF87D2A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7226-E254-4F34-AD76-2C229DB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74A49-3111-4269-8E5A-420402B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717BD-5A0B-4088-A571-6B4DA5A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1DB-873D-413E-AD1F-94A0A39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34878-C200-4393-803A-97F9D8B3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143D-88B6-417F-9DEC-C3A56E79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94529-DB3D-4FB4-B02F-2015D134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B21D-F62B-49EF-B464-7E5C55CF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49332-0874-497C-8ACC-66EE1F8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B3F6-8BA6-4CF9-B586-671D327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CA640-8C63-484B-8A3C-2A03678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4329-4F0D-4426-9D37-A680FAC7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388DF-7E65-4404-9237-7AA0A6A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FFC0A-675C-4E00-92CD-C8B45B0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7D2-3414-4F5D-B65A-56102401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7E40-BE7A-464F-8CBC-70314A4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6635-F02E-41B2-8D3F-8614CEDA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17B1-BFE3-4269-908E-713E5966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1315D-2E16-4192-9BAD-95E36C6D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A7E4B-3D45-4778-8282-27AE5F55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C00C-465A-4CF6-AE72-6E849E39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77A02-ABA5-4D84-AFE7-0DD646CE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B3BA2-7696-484E-BD6A-9BAF04D7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10FD-BEBC-43C6-B973-26ED2395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1E7D-D644-46A4-8014-77F5A99A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E6E-8CF9-4523-AAAC-9518EAF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792C0-CE52-4A4C-BFCC-AA9B4A42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3845-D842-429A-9581-BAFCC24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9C8F3-013E-4C1D-B946-28C85DE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2873E-316E-4A6D-BCC8-8823E9F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7E530-B771-4D0C-9B09-ABA38B3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2206C-FA05-4AD5-9581-DF398B06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80E4-DC1C-4806-99F4-2AFCD51B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F4135-995D-47E5-92DE-3A9CC2F7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6557C-1E54-4790-AE09-E72528AE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DCB56-5BC0-4C23-A6E3-1575038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489-063A-44C2-BAC1-FC1B42E4CF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DD3-EC61-417D-9C92-BE305194CCB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54E7-C208-4D9C-8C6E-1D0AB7E2ED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E13D-98E9-44EE-879E-284EBBC686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BC4-CCB1-44B1-AFBD-BDB4BC2E9A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A6BA-790E-4183-9FCA-DF43EB7ED5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606-DC78-4F93-8614-A8128C7397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54C9-5E09-44DA-8248-F82C4C40F7F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214C-315C-43FD-BB00-CF0AECF429E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1506-98EC-4C72-AF90-30F29F021D0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DAC-C8CF-42C4-8E5F-E9F6128CB8D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839-9DCA-42D2-89C7-C62D9F14E2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5 Koľko lásky m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Kr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oľko lásky máš pre Krista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 teba niesol krí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álu radosť on ti chy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mu srdce otvor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op sa vďačne mocnej ru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va ti ju Ježi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za teba trpel mu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ása prúdi z jeho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vot časný je len krátk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y ako klamný sen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ia prelud je v ňom vratk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však ešt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premeškaj príležit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ti ponúka tvoj Pán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rna bude každá ľúto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avrhni spás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oj z lásky darovať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09:42Z</dcterms:modified>
  <cp:revision>21</cp:revision>
  <dc:subject/>
  <dc:title>Je veľký náš Pán, on slávy je Kráľ Nech do všetkých strán  spev vrúcnych znie chvál.</dc:title>
</cp:coreProperties>
</file>